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07B77-1792-49A6-89D9-A08D9BC85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59FCA-542D-446A-A91F-1FC4B53E9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B256E-A7FD-449C-BD88-7C2F84A54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67487-D131-4D2D-84A4-67BA514F3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186AB-9649-4E50-91EF-77DB2421C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83D54-B294-491F-9F71-932A3842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2717-FEF8-40C4-890A-ED92C0CBA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B9A36-6999-4D97-9686-C09EE1CE2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DF99A-027C-43EA-98A0-5B37A30E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1AFA-9636-443A-A917-15F29813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16FE-0996-4062-96BC-3EFACDC3F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B472-FC78-42B5-BE44-CFC7A4C82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9E02-E4C2-43F7-A32E-2512884982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1371600" y="1066680"/>
            <a:ext cx="6781680" cy="46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hen is civil disobedience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justifie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disobedience: Refusal to obey laws in an effort to induce change in governmental policy or legislation. Such action may mean offending parents, friends, and fami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1828800"/>
            <a:ext cx="6035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193840" y="1484280"/>
            <a:ext cx="4664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09480" y="762120"/>
            <a:ext cx="75438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J GAST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 local black millionai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been willing to have the desegregation movement meet at your hote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motel has been bombed because of your support of the moveme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ngrily opposed to the idea of schoolchildren marching against the police force of Public Safety Commissioner Bull Conn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
          <p:cNvSpPr/>
          <p:nvPr/>
        </p:nvSpPr>
        <p:spPr>
          <a:xfrm>
            <a:off x="41148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371600" y="1371600"/>
            <a:ext cx="6553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colm 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isagree with Martin Luther King Jr.’s non-violent approa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elieve the movement is not accomplishing enou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enounced the use of young students: “Real men don’t put their children on the firing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0" y="1733400"/>
            <a:ext cx="45720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Disc Jocke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J at a popular rock-n-roll station that students listen 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arker senior students has asked you to publicize the march and encourage particip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ion’s owner is opposed to the M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nnounce the march, calling it  D-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0880" y="380880"/>
            <a:ext cx="861084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l Conn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are Commissioner of Public Safet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r job is to enforce the la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judge has just ruled that protests in Birmingham are against the la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believe strongly in segregation.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believe outside agitators have infiltrated Birmingham with the intent to disrupt this peaceful communit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the growing size of the protest, you are worried that any further protest could erupt into a violent rio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prepared to use German Shepherds, fire hoses, and heavily armed  police to arrests any and all protes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8088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Luther King J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the leader of the Southern Christian Leadership Confer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elieve in using non-violence to challenge segreg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have been called into Birmingham to lend your support and national prestige to the local movement attempting to end segreg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elieve that “if we can crack Birmingham we can crack the S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coming off a difficult campaign in Albany, GA where your efforts to desegregate the city failed and the SCLC’s and your national reputation was hur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serious reservations about the use of children. You are worried about their safety and the possible  public outcry against their use that could seriously damage future attempts to desegregate the South.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ake or break” moment for your career and the national civil rights mov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3"/>
          <p:cNvSpPr/>
          <p:nvPr/>
        </p:nvSpPr>
        <p:spPr>
          <a:xfrm>
            <a:off x="533520" y="380880"/>
            <a:ext cx="8305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low stud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arents may have told you their jobs have been threatened if you mar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eachers and principals have discouraged you from marching, but some teachers have  given you the clear impression that they want you to mar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at will most likely go to jail and you could very likely be physically injur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be kill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have to explain an arrest record on future job applic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feel pressure from your fellow stud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4"/>
          <p:cNvSpPr/>
          <p:nvPr/>
        </p:nvSpPr>
        <p:spPr>
          <a:xfrm>
            <a:off x="457200" y="31240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 citizens in the Nor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seen events on TV and are shocked by bruta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cide if you will send money to support SCLC and ACMH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cide if you will travel to the South and participate in ongoing protests</a:t>
            </a:r>
            <a:endParaRPr b="0" lang="en-US" sz="1800" spc="-1" strike="noStrike">
              <a:solidFill>
                <a:srgbClr val="000000"/>
              </a:solidFill>
              <a:latin typeface="Arial"/>
            </a:endParaRPr>
          </a:p>
        </p:txBody>
      </p:sp>
      <p:sp>
        <p:nvSpPr>
          <p:cNvPr id="87" name="TextBox 5"/>
          <p:cNvSpPr/>
          <p:nvPr/>
        </p:nvSpPr>
        <p:spPr>
          <a:xfrm>
            <a:off x="457200" y="441972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 citizens in the S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cide if you will donate money or join the prot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e dangers of direct involvement include physical danger, job loss, and possibly death</a:t>
            </a:r>
            <a:endParaRPr b="0" lang="en-US" sz="1800" spc="-1" strike="noStrike">
              <a:solidFill>
                <a:srgbClr val="000000"/>
              </a:solidFill>
              <a:latin typeface="Arial"/>
            </a:endParaRPr>
          </a:p>
        </p:txBody>
      </p:sp>
      <p:sp>
        <p:nvSpPr>
          <p:cNvPr id="88" name=""/>
          <p:cNvSpPr/>
          <p:nvPr/>
        </p:nvSpPr>
        <p:spPr>
          <a:xfrm>
            <a:off x="152280" y="2057400"/>
            <a:ext cx="8686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304920" y="304920"/>
            <a:ext cx="8229600" cy="45259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Fred Shuttlesworth</a:t>
            </a:r>
            <a:endParaRPr b="0" lang="en-US" sz="26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a passionate black preacher at the Bethel Baptist church in Birmingham.  You have joined forces with Martin Luther King Jr. and the SCLC to lead the struggle to integrate Birmingham.</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believe God has a mission for you in the Civil Rights Struggle and has already protected you when you and your family came out unscathed after segregationist vigilantes bombed your home.</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support the children’s participation in the protest marches because they are servants of God, and you believe that it will put pressure on the city to negotiate for your demands.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obert F. Kennedy</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the Attorney General and brother of president John F. Kennedy.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worried about the United States  being criticized by other countries because of the violence in Birmingham over desegregation.  It may lessen our nation’s ability to negotiate with foreign nations in regard to the Cold War.</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 White Minister in Birmingham</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critical of Shuttlesworth and Martin Luther King Jr. in regard to fighting for their rights.  He does not want them to stir things up or bring in ‘outsiders’ such as King to disturb the peace in Birmingham.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nd a number of Birmingham clergymen have expressed your objections in a letter written to King while he was in jail on charges of parading without a permit.  The ministers’ letter was published in the paper and King responded by writing the famous “Letter from a Birmingham Jail.”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0" y="38088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1</a:t>
            </a:r>
            <a:r>
              <a:rPr b="0" lang="en-US" sz="1800" spc="-1" strike="noStrike">
                <a:solidFill>
                  <a:srgbClr val="000000"/>
                </a:solidFill>
                <a:latin typeface="Arial"/>
              </a:rPr>
              <a:t>: You marched and were hit hard with a fire house. You stood against the wall and tried to remain standing to show your pride. You were knocked down, hand-cuffed, arrested, and expelled from school. </a:t>
            </a:r>
            <a:endParaRPr b="0" lang="en-US" sz="1800" spc="-1" strike="noStrike">
              <a:solidFill>
                <a:srgbClr val="000000"/>
              </a:solidFill>
              <a:latin typeface="Arial"/>
            </a:endParaRPr>
          </a:p>
        </p:txBody>
      </p:sp>
      <p:sp>
        <p:nvSpPr>
          <p:cNvPr id="92" name="TextBox 2"/>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Role Cards</a:t>
            </a:r>
            <a:endParaRPr b="0" lang="en-US" sz="1800" spc="-1" strike="noStrike">
              <a:solidFill>
                <a:srgbClr val="000000"/>
              </a:solidFill>
              <a:latin typeface="Arial"/>
            </a:endParaRPr>
          </a:p>
        </p:txBody>
      </p:sp>
      <p:sp>
        <p:nvSpPr>
          <p:cNvPr id="93" name="TextBox 4"/>
          <p:cNvSpPr/>
          <p:nvPr/>
        </p:nvSpPr>
        <p:spPr>
          <a:xfrm>
            <a:off x="0" y="144792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2: </a:t>
            </a:r>
            <a:r>
              <a:rPr b="0" lang="en-US" sz="1800" spc="-1" strike="noStrike">
                <a:solidFill>
                  <a:srgbClr val="000000"/>
                </a:solidFill>
                <a:latin typeface="Arial"/>
              </a:rPr>
              <a:t>You intended to join the march. You really did. But when you saw Bull Connor’s police with dogs you just couldn’t go through with it. You ran home. </a:t>
            </a:r>
            <a:endParaRPr b="0" lang="en-US" sz="1800" spc="-1" strike="noStrike">
              <a:solidFill>
                <a:srgbClr val="000000"/>
              </a:solidFill>
              <a:latin typeface="Arial"/>
            </a:endParaRPr>
          </a:p>
        </p:txBody>
      </p:sp>
      <p:sp>
        <p:nvSpPr>
          <p:cNvPr id="94" name="TextBox 5"/>
          <p:cNvSpPr/>
          <p:nvPr/>
        </p:nvSpPr>
        <p:spPr>
          <a:xfrm>
            <a:off x="0" y="2438280"/>
            <a:ext cx="876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3: </a:t>
            </a:r>
            <a:r>
              <a:rPr b="0" lang="en-US" sz="1800" spc="-1" strike="noStrike">
                <a:solidFill>
                  <a:srgbClr val="000000"/>
                </a:solidFill>
                <a:latin typeface="Arial"/>
              </a:rPr>
              <a:t>You marched and a policeman with a snarling, vicious German Shepherd chased you down. The dog bit your leg and tore your clothes. Another policeman grabbed you and put you in handcuffs and shoved you in a big van. You were so glad to see friends there, and someone started singing a freedom song. That made you like you were part of something bigger than yourself, and somehow the bites didn’t hurt much. </a:t>
            </a:r>
            <a:endParaRPr b="0" lang="en-US" sz="1800" spc="-1" strike="noStrike">
              <a:solidFill>
                <a:srgbClr val="000000"/>
              </a:solidFill>
              <a:latin typeface="Arial"/>
            </a:endParaRPr>
          </a:p>
        </p:txBody>
      </p:sp>
      <p:sp>
        <p:nvSpPr>
          <p:cNvPr id="95" name="TextBox 6"/>
          <p:cNvSpPr/>
          <p:nvPr/>
        </p:nvSpPr>
        <p:spPr>
          <a:xfrm>
            <a:off x="0" y="4267080"/>
            <a:ext cx="8991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4: </a:t>
            </a:r>
            <a:r>
              <a:rPr b="0" lang="en-US" sz="1800" spc="-1" strike="noStrike">
                <a:solidFill>
                  <a:srgbClr val="000000"/>
                </a:solidFill>
                <a:latin typeface="Arial"/>
              </a:rPr>
              <a:t>No sooner had you arrived at Kelly Ingram park you were arrested and taken to jail. You’ll never forget how hot and crowded it was. As you stood in the cell, surrounded by all the other kids, some far younger than you worried what would happen when your parents found out. The jail cell was a harsh place. Mattresses had been removed from the beds, food served was sometimes overly salty, and there were real criminals in the jail. Some of the kids nursed injuries. Skin and hair had been removed by the powerful water hoses. Some kids got stitches for their dog bites. You wondered, would your parents be proud or asha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0" y="5335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marcher Card: </a:t>
            </a:r>
            <a:r>
              <a:rPr b="0" lang="en-US" sz="1800" spc="-1" strike="noStrike">
                <a:solidFill>
                  <a:srgbClr val="000000"/>
                </a:solidFill>
                <a:latin typeface="Arial"/>
              </a:rPr>
              <a:t>Non marchers had a number of reasons not to march. They were scared. Their parents prohibited them to go. They had a disability. They chose not to march for reasons of their own. Why did you decide to stay?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1"/>
          <a:stretch/>
        </p:blipFill>
        <p:spPr>
          <a:xfrm>
            <a:off x="0" y="3352680"/>
            <a:ext cx="4873680" cy="3505320"/>
          </a:xfrm>
          <a:prstGeom prst="rect">
            <a:avLst/>
          </a:prstGeom>
          <a:ln w="0">
            <a:noFill/>
          </a:ln>
        </p:spPr>
      </p:pic>
      <p:sp>
        <p:nvSpPr>
          <p:cNvPr id="43" name="TextBox 1"/>
          <p:cNvSpPr/>
          <p:nvPr/>
        </p:nvSpPr>
        <p:spPr>
          <a:xfrm>
            <a:off x="4952880" y="0"/>
            <a:ext cx="4038840" cy="66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ivil Rights Victori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47 Jackie Robinson breaks the color line in Major League baseba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4 Brown v. Board of Education calls for the end of segregation in schoo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5 Montgomery Bus Boycott integrates busses in Montgomery, Alaba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7 Integration of Central High School, Little Rock, Arkans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60 Sit-in movement integrates many public facilities in the Sou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61 Freedom Rides draw attention to the Civil Rights movement</a:t>
            </a:r>
            <a:endParaRPr b="0" lang="en-US" sz="2000" spc="-1" strike="noStrike">
              <a:solidFill>
                <a:srgbClr val="000000"/>
              </a:solidFill>
              <a:latin typeface="Arial"/>
            </a:endParaRPr>
          </a:p>
        </p:txBody>
      </p:sp>
      <p:pic>
        <p:nvPicPr>
          <p:cNvPr id="44" name="Picture 4" descr=""/>
          <p:cNvPicPr/>
          <p:nvPr/>
        </p:nvPicPr>
        <p:blipFill>
          <a:blip r:embed="rId2"/>
          <a:stretch/>
        </p:blipFill>
        <p:spPr>
          <a:xfrm>
            <a:off x="0" y="22320"/>
            <a:ext cx="4876920" cy="33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80880" y="0"/>
            <a:ext cx="8371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194328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160" y="0"/>
            <a:ext cx="97218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Box 1"/>
          <p:cNvSpPr/>
          <p:nvPr/>
        </p:nvSpPr>
        <p:spPr>
          <a:xfrm>
            <a:off x="304920" y="304920"/>
            <a:ext cx="8458200" cy="430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the Children’s March impact hi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ence continued: an white Eagle Scout shot a 14 year-old African American bo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mbing at the 16</a:t>
            </a:r>
            <a:r>
              <a:rPr b="0" lang="en-US" sz="1800" spc="-1" strike="noStrike" baseline="30000">
                <a:solidFill>
                  <a:srgbClr val="000000"/>
                </a:solidFill>
                <a:latin typeface="Arial"/>
              </a:rPr>
              <a:t>th</a:t>
            </a:r>
            <a:r>
              <a:rPr b="0" lang="en-US" sz="1800" spc="-1" strike="noStrike">
                <a:solidFill>
                  <a:srgbClr val="000000"/>
                </a:solidFill>
                <a:latin typeface="Arial"/>
              </a:rPr>
              <a:t> Street Baptist Church, headquarters for the Children’s Marches, was bombed. Four little girls were kil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ired by events in Birmingham, 250,000 marched on Washington for civil righ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seeing the images from Birmingham, JFK proposed a civil rights a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osal became the Civil Rights Act of 1964 which ended hundreds of years of institutionalized segregation and discrim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Box 1"/>
          <p:cNvSpPr/>
          <p:nvPr/>
        </p:nvSpPr>
        <p:spPr>
          <a:xfrm>
            <a:off x="1371600" y="228600"/>
            <a:ext cx="647712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civil disobedience justifi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dvice to your own children about the question above. Tell them what sorts of situations or issues may require civil disobedience. Use the events from the civil rights era, and specifically Birmingham in 1963, to illustrate your poi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alking points for your advice. Your talking points mu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 at least one page lo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be written in bullet poi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details from at least two key points in the civil rights er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the story of the Children’s Marches on Birmingham in 196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the positions of at least three different voices from Birmingham in 196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a reference to at least one issue or situation today that may require civil disobed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4572000" y="0"/>
            <a:ext cx="4572000" cy="3432240"/>
          </a:xfrm>
          <a:prstGeom prst="rect">
            <a:avLst/>
          </a:prstGeom>
          <a:ln w="0">
            <a:noFill/>
          </a:ln>
        </p:spPr>
      </p:pic>
      <p:sp>
        <p:nvSpPr>
          <p:cNvPr id="46" name="TextBox 2"/>
          <p:cNvSpPr/>
          <p:nvPr/>
        </p:nvSpPr>
        <p:spPr>
          <a:xfrm>
            <a:off x="0" y="0"/>
            <a:ext cx="4876920" cy="60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2000" spc="-1" strike="noStrike">
                <a:solidFill>
                  <a:srgbClr val="000000"/>
                </a:solidFill>
                <a:latin typeface="Calibri"/>
              </a:rPr>
              <a:t>Bombingh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vil rights progress had not changed Birmingham, Alabam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im Crow laws were strictly enforce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and large, African Americans occupied the worst jobs at the lowest wage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issioner of Public Safety, Bull Connor, was an enthusiastic racist who harassed and arrested civil rights worke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erend Fred Shuttlesworth led the Alabama Christian Movement for Human Rights. His house was bombed and completely destroyed, with him inside. He survive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arly 50 such bombings occurred between 1945 and 1960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rights movement in Birmingham needed a boost. </a:t>
            </a:r>
            <a:endParaRPr b="0" lang="en-US" sz="2000" spc="-1" strike="noStrike">
              <a:solidFill>
                <a:srgbClr val="000000"/>
              </a:solidFill>
              <a:latin typeface="Arial"/>
            </a:endParaRPr>
          </a:p>
        </p:txBody>
      </p:sp>
      <p:pic>
        <p:nvPicPr>
          <p:cNvPr id="47" name="Picture 4" descr=""/>
          <p:cNvPicPr/>
          <p:nvPr/>
        </p:nvPicPr>
        <p:blipFill>
          <a:blip r:embed="rId2"/>
          <a:stretch/>
        </p:blipFill>
        <p:spPr>
          <a:xfrm>
            <a:off x="6402240" y="3124080"/>
            <a:ext cx="2741760" cy="3733920"/>
          </a:xfrm>
          <a:prstGeom prst="rect">
            <a:avLst/>
          </a:prstGeom>
          <a:ln w="0">
            <a:noFill/>
          </a:ln>
        </p:spPr>
      </p:pic>
      <p:pic>
        <p:nvPicPr>
          <p:cNvPr id="48" name="Picture 5" descr=""/>
          <p:cNvPicPr/>
          <p:nvPr/>
        </p:nvPicPr>
        <p:blipFill>
          <a:blip r:embed="rId3"/>
          <a:stretch/>
        </p:blipFill>
        <p:spPr>
          <a:xfrm>
            <a:off x="4724280" y="3581280"/>
            <a:ext cx="1581120" cy="241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380880" y="949320"/>
            <a:ext cx="83059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ealth Car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or corporation shall require any white female nurse to nurse in wards or rooms in hospitals, either public or private, in which negro men are plac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nsporta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ublic Faciliti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ll be unlawful for a negro and white person to play together or in company with each other at any game of pool or billi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employer of white or negro males shall provide for such white or negro males reasonably accessible and separate toilet facilities. </a:t>
            </a:r>
            <a:endParaRPr b="0" lang="en-US" sz="1800" spc="-1" strike="noStrike">
              <a:solidFill>
                <a:srgbClr val="000000"/>
              </a:solidFill>
              <a:latin typeface="Arial"/>
            </a:endParaRPr>
          </a:p>
        </p:txBody>
      </p:sp>
      <p:sp>
        <p:nvSpPr>
          <p:cNvPr id="50" name="TextBox 3"/>
          <p:cNvSpPr/>
          <p:nvPr/>
        </p:nvSpPr>
        <p:spPr>
          <a:xfrm>
            <a:off x="121932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Jim Crow La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2"/>
          <p:cNvSpPr/>
          <p:nvPr/>
        </p:nvSpPr>
        <p:spPr>
          <a:xfrm>
            <a:off x="1371600" y="1447920"/>
            <a:ext cx="525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tage from “Who Speaks for Birmingham”: http://www.paleycenter.org/cbs-reports-who-speaks-for-birmingh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1752480" y="0"/>
            <a:ext cx="6172200" cy="725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rmingham: 1963</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tin Luther King Jr. is called in. King is coming from a failure in Albany, Georgia, but his fame is needed. He brings the press with him.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rmingham is tough, and he and local movement leaders are not having much success ther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ders try an economic boycott that fails to gather steam.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ches are stifled by authorities and adult volunteers are reluctant to march.</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 Connor, the Commissioner of Public Safety is a scary guy with police dogs, tear gas, water hoses, and white tanks at his disposal.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g is arrested and criticized by local white clergy who want him to take things more slowly.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LC has little money to pay bail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re press leaving town and the movement is in troub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mes Bevel proposes using school children in marches.  His idea is to overwhelm Bull Connor by filling the jail with kids. And to gain the attention of the national pr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1"/>
          <p:cNvSpPr/>
          <p:nvPr/>
        </p:nvSpPr>
        <p:spPr>
          <a:xfrm>
            <a:off x="228600" y="395280"/>
            <a:ext cx="8686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Children’s M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uld school children—teens, but also elementary school children—march in Birmingh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activity you are going to play the role of a person concerned about events in Birmingham in March, 1963 to answer the question above. Your teacher will give you a role. Remember the role you are given. Then move yourself and your desks to appropriate section of the classro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
          <p:cNvSpPr/>
          <p:nvPr/>
        </p:nvSpPr>
        <p:spPr>
          <a:xfrm>
            <a:off x="838080" y="3048120"/>
            <a:ext cx="7848720" cy="3504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4"/>
          <p:cNvSpPr/>
          <p:nvPr/>
        </p:nvSpPr>
        <p:spPr>
          <a:xfrm>
            <a:off x="3737880" y="266688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nt of Room</a:t>
            </a:r>
            <a:endParaRPr b="0" lang="en-US" sz="1800" spc="-1" strike="noStrike">
              <a:solidFill>
                <a:srgbClr val="000000"/>
              </a:solidFill>
              <a:latin typeface="Arial"/>
            </a:endParaRPr>
          </a:p>
        </p:txBody>
      </p:sp>
      <p:sp>
        <p:nvSpPr>
          <p:cNvPr id="56" name="TextBox 5"/>
          <p:cNvSpPr/>
          <p:nvPr/>
        </p:nvSpPr>
        <p:spPr>
          <a:xfrm>
            <a:off x="4120920" y="6488280"/>
            <a:ext cx="145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 of Room</a:t>
            </a:r>
            <a:endParaRPr b="0" lang="en-US" sz="1800" spc="-1" strike="noStrike">
              <a:solidFill>
                <a:srgbClr val="000000"/>
              </a:solidFill>
              <a:latin typeface="Arial"/>
            </a:endParaRPr>
          </a:p>
        </p:txBody>
      </p:sp>
      <p:sp>
        <p:nvSpPr>
          <p:cNvPr id="57" name="Rectangle 6"/>
          <p:cNvSpPr/>
          <p:nvPr/>
        </p:nvSpPr>
        <p:spPr>
          <a:xfrm>
            <a:off x="3886200" y="3809880"/>
            <a:ext cx="2819520" cy="2667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7"/>
          <p:cNvSpPr/>
          <p:nvPr/>
        </p:nvSpPr>
        <p:spPr>
          <a:xfrm>
            <a:off x="4343400" y="434340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udents in Birmingham schools </a:t>
            </a:r>
            <a:endParaRPr b="0" lang="en-US" sz="2400" spc="-1" strike="noStrike">
              <a:solidFill>
                <a:srgbClr val="000000"/>
              </a:solidFill>
              <a:latin typeface="Arial"/>
            </a:endParaRPr>
          </a:p>
        </p:txBody>
      </p:sp>
      <p:sp>
        <p:nvSpPr>
          <p:cNvPr id="59" name="Rectangle 8"/>
          <p:cNvSpPr/>
          <p:nvPr/>
        </p:nvSpPr>
        <p:spPr>
          <a:xfrm>
            <a:off x="7010280" y="3809880"/>
            <a:ext cx="16002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terested citizens in the North</a:t>
            </a:r>
            <a:endParaRPr b="0" lang="en-US" sz="2400" spc="-1" strike="noStrike">
              <a:solidFill>
                <a:srgbClr val="000000"/>
              </a:solidFill>
              <a:latin typeface="Arial"/>
            </a:endParaRPr>
          </a:p>
        </p:txBody>
      </p:sp>
      <p:sp>
        <p:nvSpPr>
          <p:cNvPr id="60" name="Rectangle 9"/>
          <p:cNvSpPr/>
          <p:nvPr/>
        </p:nvSpPr>
        <p:spPr>
          <a:xfrm>
            <a:off x="7086600" y="5257800"/>
            <a:ext cx="1523880" cy="1219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terested citizens in the South</a:t>
            </a:r>
            <a:endParaRPr b="0" lang="en-US" sz="2400" spc="-1" strike="noStrike">
              <a:solidFill>
                <a:srgbClr val="000000"/>
              </a:solidFill>
              <a:latin typeface="Arial"/>
            </a:endParaRPr>
          </a:p>
        </p:txBody>
      </p:sp>
      <p:sp>
        <p:nvSpPr>
          <p:cNvPr id="61" name="Rectangle 12"/>
          <p:cNvSpPr/>
          <p:nvPr/>
        </p:nvSpPr>
        <p:spPr>
          <a:xfrm>
            <a:off x="990720" y="5181480"/>
            <a:ext cx="2133360" cy="1371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3"/>
          <p:cNvSpPr/>
          <p:nvPr/>
        </p:nvSpPr>
        <p:spPr>
          <a:xfrm>
            <a:off x="1447920" y="54864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ellow students</a:t>
            </a:r>
            <a:endParaRPr b="0" lang="en-US" sz="2400" spc="-1" strike="noStrike">
              <a:solidFill>
                <a:srgbClr val="000000"/>
              </a:solidFill>
              <a:latin typeface="Arial"/>
            </a:endParaRPr>
          </a:p>
        </p:txBody>
      </p:sp>
      <p:sp>
        <p:nvSpPr>
          <p:cNvPr id="63" name="Rectangle 14"/>
          <p:cNvSpPr/>
          <p:nvPr/>
        </p:nvSpPr>
        <p:spPr>
          <a:xfrm>
            <a:off x="4419720" y="3124080"/>
            <a:ext cx="137160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5"/>
          <p:cNvSpPr/>
          <p:nvPr/>
        </p:nvSpPr>
        <p:spPr>
          <a:xfrm>
            <a:off x="44956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acher</a:t>
            </a:r>
            <a:endParaRPr b="0" lang="en-US" sz="2400" spc="-1" strike="noStrike">
              <a:solidFill>
                <a:srgbClr val="000000"/>
              </a:solidFill>
              <a:latin typeface="Arial"/>
            </a:endParaRPr>
          </a:p>
        </p:txBody>
      </p:sp>
      <p:sp>
        <p:nvSpPr>
          <p:cNvPr id="65" name="Rectangle 16"/>
          <p:cNvSpPr/>
          <p:nvPr/>
        </p:nvSpPr>
        <p:spPr>
          <a:xfrm>
            <a:off x="914400" y="3048120"/>
            <a:ext cx="2590920" cy="2057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8"/>
          <p:cNvSpPr/>
          <p:nvPr/>
        </p:nvSpPr>
        <p:spPr>
          <a:xfrm>
            <a:off x="914400" y="3124080"/>
            <a:ext cx="2514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ll Conn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 par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tin Luther King J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red Shuttlesw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 white minis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obert Kenne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James B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ndrew Yo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15"/>
          <p:cNvSpPr/>
          <p:nvPr/>
        </p:nvSpPr>
        <p:spPr>
          <a:xfrm>
            <a:off x="7010280" y="3200400"/>
            <a:ext cx="152424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7"/>
          <p:cNvSpPr/>
          <p:nvPr/>
        </p:nvSpPr>
        <p:spPr>
          <a:xfrm>
            <a:off x="7238880" y="320040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609480" y="304920"/>
            <a:ext cx="8001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
          <p:cNvSpPr/>
          <p:nvPr/>
        </p:nvSpPr>
        <p:spPr>
          <a:xfrm>
            <a:off x="457200" y="609480"/>
            <a:ext cx="8229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 10</a:t>
            </a:r>
            <a:r>
              <a:rPr b="0" lang="en-US" sz="1800" spc="-1" strike="noStrike" baseline="30000">
                <a:solidFill>
                  <a:srgbClr val="000000"/>
                </a:solidFill>
                <a:latin typeface="Arial"/>
              </a:rPr>
              <a:t>th</a:t>
            </a:r>
            <a:r>
              <a:rPr b="0" lang="en-US" sz="1800" spc="-1" strike="noStrike">
                <a:solidFill>
                  <a:srgbClr val="000000"/>
                </a:solidFill>
                <a:latin typeface="Arial"/>
              </a:rPr>
              <a:t> grade social studies teacher at Parker High Schoo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tudents are aware of the planned Children’s March, and several of them have announced their intention to particip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uncommitted students has asked your advice as to whether or not she should particip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e school administration has not authorized student participation in the march or teacher endorse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al, R.C. Johnson and other educators plan to detain the teenagers by locking the gates of the school y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3"/>
          <p:cNvSpPr/>
          <p:nvPr/>
        </p:nvSpPr>
        <p:spPr>
          <a:xfrm>
            <a:off x="380880" y="304920"/>
            <a:ext cx="822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4"/>
          <p:cNvSpPr/>
          <p:nvPr/>
        </p:nvSpPr>
        <p:spPr>
          <a:xfrm>
            <a:off x="533520" y="266688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8"/>
          <p:cNvSpPr/>
          <p:nvPr/>
        </p:nvSpPr>
        <p:spPr>
          <a:xfrm>
            <a:off x="457200" y="3809880"/>
            <a:ext cx="8077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mes Bevel:</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an African American minister working to end segregation in Birmingham.</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married to Freedom Rider and SNCC member Diane Nash.</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working with contacts at the Parker high school to involve teens in the march</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yor has denied the parade permit but you leak information about the march at a mass meeting and label the event D-Day</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sk the students if they understand why their football helmets show up blue and white rather than green or gray? You asked students to look at the copyright on their textbooks and count the number of electronic typewriters.</a:t>
            </a:r>
            <a:endParaRPr b="0" lang="en-US" sz="1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13:34:19Z</dcterms:created>
  <dc:creator>Steve</dc:creator>
  <dc:description/>
  <dc:language>en-US</dc:language>
  <cp:lastModifiedBy>default</cp:lastModifiedBy>
  <dcterms:modified xsi:type="dcterms:W3CDTF">2009-06-27T04:40:42Z</dcterms:modified>
  <cp:revision>21</cp:revision>
  <dc:subject/>
  <dc:title>Slide 1</dc:title>
</cp:coreProperties>
</file>